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B206-FB52-4BFA-A3AA-29CF465A5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516-8117-4D87-A502-233254AFE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E8C-1AF2-4FA0-AFC4-371D9F1E7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FC2B-E0C9-4965-AB17-273AF210B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44FAE-11C6-4699-A93D-13D0640A9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45609-7304-4572-8045-B03DD7FE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60FE-F795-4412-8351-EB36DC6B6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1534F-DB58-43A7-80E6-623F6C236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6BEC-7795-46E9-945C-B789D56FA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7F0B-827D-4309-89FB-31FD2AC5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94FA7-36DA-4833-988A-AC38DE7EE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7FD2-499F-4630-B879-9DAFDD82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BCCCF-0DE0-4637-BF26-148CF3B84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44339-3707-498C-84B5-BCDCF9B1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9A183-8AA7-4B7E-975F-1216DFB06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23D7-E8B6-4963-9E86-AB57E3AFE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439BB-AC3B-484B-9CB7-389CE368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7DB-5026-4C70-9C79-16B7411F7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267C-075E-41F7-B0D1-95C4CC5F0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EF674-2AAD-482C-BBD9-EFA2A230B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D51E8-F090-4C08-B550-627C3473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10CE-3612-4B74-B4E8-786FB6F54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9EF0-D2B5-440A-9641-C73E4294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314A9-9127-46BB-8FB1-D915E5D4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5416-538C-4C05-A72E-73E6BD6D7D4E}" type="slidenum">
              <a:rPr b="0" lang="hr-H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494C-A813-410F-8B61-B900516C1CA1}" type="slidenum">
              <a:rPr b="0" lang="hr-HR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dluka o komunalnom otpad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1006560" y="1407960"/>
            <a:ext cx="2028600" cy="13050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5" descr=""/>
          <p:cNvPicPr/>
          <p:nvPr/>
        </p:nvPicPr>
        <p:blipFill>
          <a:blip r:embed="rId2"/>
          <a:stretch/>
        </p:blipFill>
        <p:spPr>
          <a:xfrm>
            <a:off x="5985000" y="3068640"/>
            <a:ext cx="1780920" cy="12762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"/>
          <p:cNvPicPr/>
          <p:nvPr/>
        </p:nvPicPr>
        <p:blipFill>
          <a:blip r:embed="rId3"/>
          <a:stretch/>
        </p:blipFill>
        <p:spPr>
          <a:xfrm>
            <a:off x="1042920" y="4157640"/>
            <a:ext cx="2095560" cy="1432080"/>
          </a:xfrm>
          <a:prstGeom prst="rect">
            <a:avLst/>
          </a:prstGeom>
          <a:ln w="0">
            <a:noFill/>
          </a:ln>
        </p:spPr>
      </p:pic>
      <p:sp>
        <p:nvSpPr>
          <p:cNvPr id="166" name="TekstniOkvir 4"/>
          <p:cNvSpPr/>
          <p:nvPr/>
        </p:nvSpPr>
        <p:spPr>
          <a:xfrm>
            <a:off x="3171960" y="1798560"/>
            <a:ext cx="37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Što EU traži od na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TekstniOkvir 5"/>
          <p:cNvSpPr/>
          <p:nvPr/>
        </p:nvSpPr>
        <p:spPr>
          <a:xfrm>
            <a:off x="3780000" y="3444840"/>
            <a:ext cx="197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HR propisi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ekstniOkvir 6"/>
          <p:cNvSpPr/>
          <p:nvPr/>
        </p:nvSpPr>
        <p:spPr>
          <a:xfrm>
            <a:off x="3138480" y="4633920"/>
            <a:ext cx="215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Praksa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kstniOkvir 7"/>
          <p:cNvSpPr/>
          <p:nvPr/>
        </p:nvSpPr>
        <p:spPr>
          <a:xfrm>
            <a:off x="4067280" y="6093000"/>
            <a:ext cx="46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Sonja Polonijo, rujan 2017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Susta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Javna usluga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rikupljanja miješanog komunalnog i biorazgradivog otpada – 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INDIVIDUALNO PREMA KORISNIKU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Usluga povezana s javnom uslugom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, mobilno reciklažno dvorište, spremnici na javnim površinama i kod korisnika usluge, glomazni otpad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Gradnja susta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 vrata do v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eleni otoci za reciklabilni otp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Mobilno reciklažno dvoriš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što ne „po špranci”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5" descr=""/>
          <p:cNvPicPr/>
          <p:nvPr/>
        </p:nvPicPr>
        <p:blipFill>
          <a:blip r:embed="rId1"/>
          <a:stretch/>
        </p:blipFill>
        <p:spPr>
          <a:xfrm>
            <a:off x="1187280" y="1773360"/>
            <a:ext cx="6624720" cy="3311280"/>
          </a:xfrm>
          <a:prstGeom prst="rect">
            <a:avLst/>
          </a:prstGeom>
          <a:ln w="0">
            <a:noFill/>
          </a:ln>
        </p:spPr>
      </p:pic>
      <p:sp>
        <p:nvSpPr>
          <p:cNvPr id="192" name="TekstniOkvir 2"/>
          <p:cNvSpPr/>
          <p:nvPr/>
        </p:nvSpPr>
        <p:spPr>
          <a:xfrm>
            <a:off x="395280" y="551664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ilj je zajednički, ali je put u bolju ekološku budućnost različit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Lokalne specifičnosti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Veliki grado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Rijetko naselje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Turističke sredin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Poljoprivredni krajev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3200" spc="-1" strike="noStrike">
                <a:solidFill>
                  <a:srgbClr val="ffc000"/>
                </a:solidFill>
                <a:latin typeface="Arial"/>
              </a:rPr>
              <a:t>Copy-Paste” NIJE rješenj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„</a:t>
            </a: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isciplina korisnika uslu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nedostatak infrastruktu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mora „držati vodu” i u periodu gradnje susta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Još neke „nagazne min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munalno redarst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korisnik ne prima pošiljku s Izjav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apartmanske zgrade koje se „na crno” iznajmljuju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538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Copy Paste?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Imamo problem!</a:t>
            </a:r>
            <a:br>
              <a:rPr sz="4400"/>
            </a:br>
            <a:br>
              <a:rPr sz="4400"/>
            </a:b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jedno s komunalcem</a:t>
            </a:r>
            <a:br>
              <a:rPr sz="4400"/>
            </a:br>
            <a:r>
              <a:rPr b="0" lang="hr-HR" sz="4400" spc="-1" strike="noStrike">
                <a:solidFill>
                  <a:srgbClr val="ffffff"/>
                </a:solidFill>
                <a:latin typeface="Arial"/>
              </a:rPr>
              <a:t>uzeti i vanjskog ako tre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Zakonodavni okvi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ZOGO (NN 94/2013, 73/2017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redba (NN 50/2017.) stupa na snagu 1.11.2017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JLS treba do 31.1.2018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poslovanje davatelja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uskladiti Odluku o komunalnom redu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sklađenje poslovanja davatelja uslu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Odluka o načinu pružanja usluge (GV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Ugovor  (Odluka, Izjava, Cjenik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Izjava: davatelj usluge prema korisnicim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Cjenik: odgoda primjene 30 dana od objave (suglasnost gradonačelnika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37160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USKLAĐENOST ROKOVA!!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30276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800" spc="-1" strike="noStrike">
                <a:solidFill>
                  <a:srgbClr val="ffc000"/>
                </a:solidFill>
                <a:latin typeface="Arial"/>
              </a:rPr>
              <a:t>ZOGO čl.33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11280" y="126828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6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Cijena javne usluge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»onečišćivač plaća«,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ekonomski održivo poslovanje,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sigurnost, redovitost i kvaliteta pružanja usluge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16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60000"/>
              </a:lnSpc>
              <a:spcBef>
                <a:spcPts val="675"/>
              </a:spcBef>
              <a:buClr>
                <a:srgbClr val="86d1ec"/>
              </a:buClr>
              <a:buSzPct val="9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c000"/>
                </a:solidFill>
                <a:latin typeface="Arial"/>
              </a:rPr>
              <a:t>jedinična cijena</a:t>
            </a:r>
            <a:r>
              <a:rPr b="0" lang="hr-HR" sz="27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hr-HR" sz="2700" spc="-1" strike="noStrike">
                <a:solidFill>
                  <a:srgbClr val="ffffff"/>
                </a:solidFill>
                <a:latin typeface="Arial"/>
              </a:rPr>
              <a:t>za masu predanog otpada ili volumen spremnika otpada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redb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 - FIKS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cijena za količinu predanog otpad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VARIJABILNI dio račun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r-HR" sz="3000" spc="-1" strike="noStrike">
                <a:solidFill>
                  <a:srgbClr val="ffc000"/>
                </a:solidFill>
                <a:latin typeface="Arial"/>
              </a:rPr>
              <a:t>ugovorna kazna </a:t>
            </a:r>
            <a:r>
              <a:rPr b="0" i="1" lang="hr-HR" sz="3000" spc="-1" strike="noStrike">
                <a:solidFill>
                  <a:srgbClr val="ffffff"/>
                </a:solidFill>
                <a:latin typeface="Arial"/>
              </a:rPr>
              <a:t>- NOVOST!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Obvezna minimalna javna uslug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dio javne usluge koju je potrebno osigurati kako bi sustav sakupljanja komunalnog otpada mogao ispuniti svoju svrhu poštujući pritom obvezu o osiguranju primjene načela »onečišćivač plaća«, ekonomski održivo poslovanje te sigurnost, redovitost i kvalitetu pružanja javne uslu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c000"/>
                </a:solidFill>
                <a:latin typeface="Arial"/>
              </a:rPr>
              <a:t>Ugovorna kazn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Davatelj uslug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pod određenim uvjetima smije naplatiti nediscipliniranom korisniku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000" spc="-1" strike="noStrike">
                <a:solidFill>
                  <a:srgbClr val="ffc000"/>
                </a:solidFill>
                <a:latin typeface="Arial"/>
              </a:rPr>
              <a:t>Visina ugovorne kazne</a:t>
            </a:r>
            <a:r>
              <a:rPr b="0" lang="hr-HR" sz="3000" spc="-1" strike="noStrike">
                <a:solidFill>
                  <a:srgbClr val="ffffff"/>
                </a:solidFill>
                <a:latin typeface="Arial"/>
              </a:rPr>
              <a:t> – nivo dodatnog troška za davatelja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ffc000"/>
                </a:solidFill>
                <a:latin typeface="Arial"/>
              </a:rPr>
              <a:t>Odluka o načinu pružanja javne uslug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Obvezni i fakultativni sadrža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ffff"/>
                </a:solidFill>
                <a:latin typeface="Arial"/>
              </a:rPr>
              <a:t>ZOGO (čl.30.st.7.) i Uredba (čl.4. st. 1. i 2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ffc000"/>
                </a:solidFill>
                <a:latin typeface="Arial"/>
              </a:rPr>
              <a:t>Gradnja novog sustava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c000"/>
                </a:solidFill>
                <a:latin typeface="Arial"/>
              </a:rPr>
              <a:t>Rokovi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evidencija (koliko je pojedini korisnik predao otpada) – do 30.4.2018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prihvatljiv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vi-VN" sz="3200" spc="-1" strike="noStrike">
                <a:solidFill>
                  <a:srgbClr val="ffffff"/>
                </a:solidFill>
                <a:latin typeface="Arial"/>
              </a:rPr>
              <a:t> dokaz izvršenja javne usluge za pojedinog korisnika usluge</a:t>
            </a:r>
            <a:r>
              <a:rPr b="0" lang="hr-HR" sz="3200" spc="-1" strike="noStrike">
                <a:solidFill>
                  <a:srgbClr val="ffffff"/>
                </a:solidFill>
                <a:latin typeface="Arial"/>
              </a:rPr>
              <a:t> do 31.10.2018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4T07:50:53Z</dcterms:created>
  <dc:creator>Sonja Polonijo</dc:creator>
  <dc:description/>
  <dc:language>en-US</dc:language>
  <cp:lastModifiedBy>Sonja Polonijo</cp:lastModifiedBy>
  <dcterms:modified xsi:type="dcterms:W3CDTF">2017-08-28T06:47:50Z</dcterms:modified>
  <cp:revision>47</cp:revision>
  <dc:subject/>
  <dc:title>Prije ZOGO-a</dc:title>
</cp:coreProperties>
</file>